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36B-05AE-4534-A1BD-66D2C950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4F7-3BE8-435A-9D85-04A7959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798-2B37-42CC-877C-CCD544C6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749-152E-43C9-9BE5-8ACC55F9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446-C5C8-4FA3-8131-35EBBF39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FA9-5B42-405B-9F20-CB393F04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9EF-5FE7-46FA-AA73-CB6D852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EFC-1845-4C33-89CE-6F45C21A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DCA-B124-421A-97F0-3F87253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050-1C8D-4C60-9FDA-2BE516C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C8F-2671-4C34-A990-005983A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95-5080-4143-973B-C27019A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5E4-222B-4A5A-B477-ADEAA35027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Seasonal adjustm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eseasonalising a time series involves replacing the original time series with another one where most or all of the seasonal variation has been removed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deseasonalise data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Average over all seasons for each year—these are the yearly aver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Divide each point in the original time series by its corresponding yearly averag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Using this new series, average over all years for each season—these are the </a:t>
            </a:r>
            <a:r>
              <a:rPr b="1" lang="en-AU" sz="2800" spc="-1" strike="noStrike">
                <a:solidFill>
                  <a:srgbClr val="000000"/>
                </a:solidFill>
                <a:latin typeface="Cambria"/>
              </a:rPr>
              <a:t>seasonal indic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Divide each point in the original time series by its corresponding seasonal index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deseasonalise figur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seasonalise figur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easonalised data = deseasonalised data x seasonal inde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um of the seasonal indices is equal to the number of seas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284120" y="2230560"/>
          <a:ext cx="62089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2230560"/>
                    <a:ext cx="62089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4F: 1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F: 2, 3, 5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4:49:14Z</dcterms:created>
  <dc:creator>08843474</dc:creator>
  <dc:description/>
  <dc:language>en-US</dc:language>
  <cp:lastModifiedBy>08843474</cp:lastModifiedBy>
  <dcterms:modified xsi:type="dcterms:W3CDTF">2011-04-03T04:59:09Z</dcterms:modified>
  <cp:revision>1</cp:revision>
  <dc:subject/>
  <dc:title>Time series</dc:title>
</cp:coreProperties>
</file>